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5BA3-B9BF-4521-9959-971AF988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B0FB-A8CC-49A3-BF1E-17197B39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A850-4945-414D-9E82-F95FDCB4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AF2B-6D6D-4CF6-97F9-19E7902C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1273-7728-4C48-B009-BCE2BD7A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78A2-65D6-4D5A-A8F4-DBC5F711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E5AD-BF7F-4897-881B-23090FEF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81CF-D6BF-4A47-A47B-8319211D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4827-BD76-4A95-9809-9EABB15D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C01A-C0FE-4827-A57A-AF6053C4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6785-3769-4A34-B077-29550B70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D1D3-2D84-4729-9581-DEF58A86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580A-C23E-4B72-9D91-8A5329F03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share4.esd105.wednet.edu/kteske/bales/images/baltped.jpg&amp;imgrefurl=http://share4.esd105.wednet.edu/kteske/bales/baldueteromycota.htm&amp;usg=__ox0xPB3FDYAEQQJfPnkoCi7sv58=&amp;h=365&amp;w=448&amp;sz=44&amp;hl=en&amp;start=3&amp;tbnid=EOhVQlWr287KzM:&amp;tbnh=103&amp;tbnw=127&amp;prev=/images%3Fq%3DDeuteromycota%26hl%3Den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zoomdinosaurs.com/label/plants.s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hiitakemushroomlog.com/shiitakelore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google.com/imgres?imgurl=http://botit.botany.wisc.edu/toms_fungi/images/calbsem.jpg&amp;imgrefurl=http://botit.botany.wisc.edu/toms_fungi/jan99.html&amp;usg=__ZukxlGq7WwK9wsGj74OjaT4X9uE=&amp;h=371&amp;w=400&amp;sz=19&amp;hl=en&amp;start=2&amp;tbnid=fbfI0uu5ZWM6vM:&amp;tbnh=115&amp;tbnw=124&amp;prev=/images%3Fq%3Dfungi%2Bbudding%26hl%3Den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google.com/imgres?imgurl=http://www.avidimages.com/preview/2006/09/17/pink_fungi_avidimages_1021_prev.jpg&amp;imgrefurl=http://www.avidimages.com/view.php%3Fid%3D1021&amp;usg=__cc58sfBzdud3GZbNAqffN-OsdfQ=&amp;h=500&amp;w=375&amp;sz=28&amp;hl=en&amp;start=12&amp;tbnid=Ez9SSqo5QVirFM:&amp;tbnh=130&amp;tbnw=98&amp;prev=/images%3Fq%3Dfungi%26hl%3Den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 Extra Bold"/>
              </a:rPr>
              <a:t>Fung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5" descr="animated mushroom clipart image"/>
          <p:cNvPicPr/>
          <p:nvPr/>
        </p:nvPicPr>
        <p:blipFill>
          <a:blip r:embed="rId1"/>
          <a:stretch/>
        </p:blipFill>
        <p:spPr>
          <a:xfrm>
            <a:off x="3733920" y="5638680"/>
            <a:ext cx="99828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comycota (Sac Fung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e their spores in special pods or sac-like structures called asci, which may open at one end. This give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scomyco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ability to discharge spores forcefully by squeezing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sc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www.palaeos.com/Fungi/Images/Ascomycota.jpg"/>
          <p:cNvPicPr/>
          <p:nvPr/>
        </p:nvPicPr>
        <p:blipFill>
          <a:blip r:embed="rId2"/>
          <a:stretch/>
        </p:blipFill>
        <p:spPr>
          <a:xfrm>
            <a:off x="4724280" y="18288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diomycota (Club Fung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mushrooms in this phylum look like umbrellas growing from the ground or like shelves growing on wood.  Characterized by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ate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ha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ole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http://www.nearctica.com/biomes/edf/mushroom/mush1.jpg"/>
          <p:cNvPicPr/>
          <p:nvPr/>
        </p:nvPicPr>
        <p:blipFill>
          <a:blip r:embed="rId1"/>
          <a:stretch/>
        </p:blipFill>
        <p:spPr>
          <a:xfrm>
            <a:off x="5029200" y="2362320"/>
            <a:ext cx="34639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uteromyco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over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human skin diseases are this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hlete’s Fo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http://tbn1.google.com/images?q=tbn:EOhVQlWr287KzM:http://share4.esd105.wednet.edu/kteske/bales/images/baltpe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209680"/>
            <a:ext cx="35053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chens (Mycophycophyt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ir very structure is unique: a union of two organisms -- a fungus and algae -- so complete that they behave and look like an entirely new bein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lgae provide nutrients while the fungus protects them from the elements. Lichens can literally eat stones, survive severe cold, and remain dormant for long periods without har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oup of boulders with crustose liche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www.fs.fed.us/wildflowers/interesting/lichens/images/lichens_on_boulders_lg.jpg"/>
          <p:cNvPicPr/>
          <p:nvPr/>
        </p:nvPicPr>
        <p:blipFill>
          <a:blip r:embed="rId3"/>
          <a:stretch/>
        </p:blipFill>
        <p:spPr>
          <a:xfrm>
            <a:off x="2057400" y="1600200"/>
            <a:ext cx="4978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ycorrhiza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gi in this group have an intimate association between the branched, tubular filaments (hyphae) of a fungus and the roots of high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corrhizae Fungi Around a Plant Ro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6" descr="YF2031 - Mycorrhizae Fungi Around a Plant Root"/>
          <p:cNvPicPr/>
          <p:nvPr/>
        </p:nvPicPr>
        <p:blipFill>
          <a:blip r:embed="rId1"/>
          <a:stretch/>
        </p:blipFill>
        <p:spPr>
          <a:xfrm>
            <a:off x="5486400" y="2590920"/>
            <a:ext cx="25718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to Hum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drugs are created from fun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nicill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fir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ibiotic comes from 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gu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yclospor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 dru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suppress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mune reactions i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gan transplan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ast is used for b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http://tbn1.google.com/images?q=tbn:UH51hjKGldeDqM:http://i.ivillage.com/stuffwelove/Oct2007/F/cupcake_stand4_325.jpg"/>
          <p:cNvPicPr/>
          <p:nvPr/>
        </p:nvPicPr>
        <p:blipFill>
          <a:blip r:embed="rId1"/>
          <a:stretch/>
        </p:blipFill>
        <p:spPr>
          <a:xfrm>
            <a:off x="5715000" y="2438280"/>
            <a:ext cx="19526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to the Enviro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10552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gi are important in the world's ecosystem as decompos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ease carbon dioxide to the atmosphere and nitrogen and other compounds to the soil where they are available for other organism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tbn1.google.com/images?q=tbn:TySRyOfl6gHSGM:http://image03.webshots.com/3/8/95/51/24789551oDZGAeXBpF_fs.jpg"/>
          <p:cNvPicPr/>
          <p:nvPr/>
        </p:nvPicPr>
        <p:blipFill>
          <a:blip r:embed="rId1"/>
          <a:stretch/>
        </p:blipFill>
        <p:spPr>
          <a:xfrm>
            <a:off x="762120" y="1600200"/>
            <a:ext cx="3338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ypha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y of the threadlike filaments forming the mycelium of a fung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ycelium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group of fine branching tubes (hyphae) that forms the main growing structure of a fungus. Visible structures like mushrooms are reproductive structures produced by the myceliu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Mushroom diagram to lab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1676520"/>
            <a:ext cx="4343400" cy="3367080"/>
          </a:xfrm>
          <a:prstGeom prst="rect">
            <a:avLst/>
          </a:prstGeom>
          <a:ln w="0">
            <a:noFill/>
          </a:ln>
        </p:spPr>
      </p:pic>
      <p:sp>
        <p:nvSpPr>
          <p:cNvPr id="48" name="5-Point Star 5"/>
          <p:cNvSpPr/>
          <p:nvPr/>
        </p:nvSpPr>
        <p:spPr>
          <a:xfrm>
            <a:off x="8458200" y="4648320"/>
            <a:ext cx="228600" cy="228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8006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iti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 tough, semitransparent substance that found in the cell walls of certain fungi.  Chemically, it is a nitrogenous polysaccharide (a carbohydrate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sit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organism that grows, feeds, and is sheltered on or in a different organism while contributing nothing to the survival of its hos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aprophyte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y organism that lives on dead organic ma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91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Mushroom Lo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828800"/>
            <a:ext cx="213372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723920" y="10666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udding: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form of asexual reproduction in living organisms in which new individuals form from outgrowths (buds) on the bodies of mature organisms. These buds grow by mito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ores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usually one-celled reproductive body that can grow into a new organism without uniting with another cell. Spores ar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aploi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ragmentati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form of asexual reproduction or cloning where an organism is split into fragment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http://www.bbc.co.uk/oxford/pictures/visions_science/pop_up_01.jpg"/>
          <p:cNvPicPr/>
          <p:nvPr/>
        </p:nvPicPr>
        <p:blipFill>
          <a:blip r:embed="rId1"/>
          <a:stretch/>
        </p:blipFill>
        <p:spPr>
          <a:xfrm>
            <a:off x="838080" y="2133720"/>
            <a:ext cx="3314880" cy="2241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tbn0.google.com/images?q=tbn:fbfI0uu5ZWM6vM:http://botit.botany.wisc.edu/toms_fungi/images/calbsem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533520"/>
            <a:ext cx="1600200" cy="1484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tbn2.google.com/images?q=tbn:Ez9SSqo5QVirFM:http://www.avidimages.com/preview/2006/09/17/pink_fungi_avidimages_1021_prev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52680" y="4495680"/>
            <a:ext cx="121932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xual Re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fungi reproduce sexually, the male and female cells fuse, to produce spores inside a "fruiting body" such as a mushroom. They are unlike the seeds found in seed-plants, because they do not contain an embryo, and because they do not have much of a food reserve. The spores are dispersed throughout the environment where they will settle and gro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http://img.sparknotes.com/figures/5/5b2570b38ff96026a03c4f4d6d510ed7/basidiorepro.gif"/>
          <p:cNvPicPr/>
          <p:nvPr/>
        </p:nvPicPr>
        <p:blipFill>
          <a:blip r:embed="rId1"/>
          <a:stretch/>
        </p:blipFill>
        <p:spPr>
          <a:xfrm>
            <a:off x="1981080" y="306360"/>
            <a:ext cx="563904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gi can also reproduce asexually (budding is an example).   Fragmentation is also a form of asexual reproduction.  Fungi reproduce asexually by simply making little copies of themselv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495320" y="1295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http://www.topnews.in/health/files/Bread-mold.jpg"/>
          <p:cNvPicPr/>
          <p:nvPr/>
        </p:nvPicPr>
        <p:blipFill>
          <a:blip r:embed="rId1"/>
          <a:stretch/>
        </p:blipFill>
        <p:spPr>
          <a:xfrm>
            <a:off x="4724280" y="1676520"/>
            <a:ext cx="3954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taining Nutri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gi feed by absorbing food through the hyphae.  They do this by the following method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ungus grow hyphae into a food sour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gestive juices ooze from the tips of the hypha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juices break down the foo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hyphae then absorb the dissolved foo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fungi break down decaying organisms.  Others live as parasites on other living org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5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gus on a dead organ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gus on a living organ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http://www.allstop.com/images/examples/athletes-foot.jpg"/>
          <p:cNvPicPr/>
          <p:nvPr/>
        </p:nvPicPr>
        <p:blipFill>
          <a:blip r:embed="rId1"/>
          <a:stretch/>
        </p:blipFill>
        <p:spPr>
          <a:xfrm>
            <a:off x="5334120" y="2743200"/>
            <a:ext cx="2666880" cy="3000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www.hikingwithchuck.com/Downloads/FungusOnFallenLog20071104.JPG"/>
          <p:cNvPicPr/>
          <p:nvPr/>
        </p:nvPicPr>
        <p:blipFill>
          <a:blip r:embed="rId2"/>
          <a:stretch/>
        </p:blipFill>
        <p:spPr>
          <a:xfrm>
            <a:off x="762120" y="28195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ygomyo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ve on decaying plant and animal matter in the soil. Some are parasites of plants, insects and small soil organis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, bread m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8" descr="http://www.chevroncars.com/learn/img-old/9-5-0.gif"/>
          <p:cNvPicPr/>
          <p:nvPr/>
        </p:nvPicPr>
        <p:blipFill>
          <a:blip r:embed="rId1"/>
          <a:stretch/>
        </p:blipFill>
        <p:spPr>
          <a:xfrm>
            <a:off x="5486400" y="2743200"/>
            <a:ext cx="252396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4:52:22Z</dcterms:created>
  <dc:creator>Student</dc:creator>
  <dc:description/>
  <dc:language>en-US</dc:language>
  <cp:lastModifiedBy>Teacher</cp:lastModifiedBy>
  <dcterms:modified xsi:type="dcterms:W3CDTF">2009-03-20T14:33:48Z</dcterms:modified>
  <cp:revision>17</cp:revision>
  <dc:subject/>
  <dc:title>Fungi</dc:title>
</cp:coreProperties>
</file>